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BB3-BD0C-4585-B281-6188F364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A50-BAAC-4AC7-ADDD-8AEC4957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9FABE-A8C6-41D4-AD1A-9810B56B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C12EE-6C4A-4EC8-A43A-6019D819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78725-E5D7-43AA-A0F4-910BA9E1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1B01B-00CA-4EB6-8462-71EF9E2B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47076-0D2D-4D15-AF93-B95CEDB7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D4607-9582-47EB-82EA-898C0697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FCBE0-ACF8-4D51-B0F6-859BB608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B7C2E-E87B-4E94-896F-29436C3F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A9117-4B6F-40E0-B95D-A8EEE11C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CAA72-BBB1-45F1-B588-578C314D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075-F879-4CBC-9BD8-41625956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2BBE4-6F14-489C-9894-2CFF0426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8BAAE-4FF7-478B-9BF0-5F518F91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D1C3C-4559-4F7D-8EE3-F2130088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E85DC-7ACF-47A3-8650-223AF0AE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BA744-1CEE-4654-965C-20A56DFC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9BB45-A053-4190-A523-BF246977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B73B7-990A-4C8C-859D-F8375542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36B83-94E6-4126-9FE7-BCBF4ACD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57E34-DE61-4197-AE95-59672A8A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8ADB0-1CB0-40FE-8CFC-4F7EB243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C84-E132-4542-9293-534C68A4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86C6F-8BE4-4E59-848B-43DBF302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6CF06-4F04-4FE7-ACC2-5F049026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F72A7-2A20-4B56-A84B-97AB1E61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A89D9-1138-4BD3-A1E5-DD61A6DC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58B2B-B4DD-4B78-AE08-D55447A7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A1D59-6116-490A-84FB-07AC851F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D72F6-8339-49A6-9104-AE551D6E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5896F-938D-49C4-B246-C8C267ED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0E572-9106-48F2-83B4-D7C69926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E70FF-6D44-4EED-998F-11D7049C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A7E9-038E-417B-9620-B6D225C4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876A9-9163-4D4E-959C-C7C86812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4A392-71A0-47E7-9BF8-10FA6B81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1C617-CF1B-4CF9-830B-5D462B9E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AA8EC-708E-4F7F-A1EE-C3BFC6B6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CF440-F703-4201-89AD-952EB377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1D332-C8A7-4125-B9EE-AD0FD047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05068-F958-4346-8ECF-8D39E562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9C352-4EF0-495D-B553-B9BFB6EF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92D42-F762-4E5F-8F9D-1871CA6E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BC620-A744-433F-93C2-F0173E72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348B-7053-4989-BC2B-63B981F5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9CB58-8A86-4A2D-8B21-DD6D470E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EA26A-F820-4BB4-815B-A885BEF3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F8109-450D-4F85-8009-6928E73C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76EA0-1FB9-480D-94A5-039C9E91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EF983-5204-4A9C-9EF6-E7C89100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E8AE1-CCF5-4C35-9871-76C9102E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1388C-0101-4D40-881C-36FA1BC2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262C2-67E3-4F88-AB35-FEC88828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C061F-A48B-458F-B77B-4DE77608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1FD24-55F4-49C2-81F3-23895A58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1BB9-C7AF-4DEA-A8E2-1608FB31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F20DB-9D82-4862-8F16-AB302210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22BC8-4FA2-4A23-8C33-F6AD6E4F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22D40-E133-423B-833F-45EC8988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BAA0B-6BF3-422D-820D-6BEF91A0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E92194-D20F-4A74-A5F9-CFE43258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0E989-E620-4694-B6EE-DDC73D76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B8C13-B5A5-4A65-99E2-C9C7F0E8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61445-13BD-4DFC-BD2A-167D8F7F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BA8FF-8808-46EB-B864-733A6930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7CCA9-7699-4359-9574-A779D026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76C3-DC12-414F-B3EF-E0D9D6B3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04F21-D7CB-4835-A35E-B920BDEB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8D846-39DD-47A5-9E73-87789DC8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A47F0-CE08-49E3-8C74-DADC3854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6B61A-F4F4-47D7-AEA6-64CE3F07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2B008-8842-422C-8D20-2B8E318B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A58504-CBBE-4141-B304-DC9FDDE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AA62A8-A90F-413F-BB42-EE9089B6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6A126-2A9D-4B37-BEA8-5594BC03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C3442-18FA-4CE9-8033-7EC99F8F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84D0-DC5C-4BAC-A280-00540586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9D04-3E81-451B-898F-0F2D8C76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AFD6-C2DB-47B5-AF29-EF54C7C7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984-2FE3-4212-995C-AD587AC6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33EC-DFC8-4A34-90D9-A75E42A5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A4CD-2BCB-420C-84CF-320E2C29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1CD0-A606-462A-93E7-9634B518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E644-DB0A-450F-A5F4-15DB39B6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B6D2-3304-44F7-9F16-F665AF35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4070D-F6EA-4D93-A6A6-199D5212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6088-C3FE-474D-83C9-95362CBB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C56F7-6036-4C1C-95ED-5EF9E495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DEE2-6367-4BC7-ABED-521215F4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33A3F-288D-42AA-977D-686C4564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AF7-F6B1-4497-8801-A66F5F64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49D84-2D59-4C2B-8419-5B230CE4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FD8BE-BB4C-43DF-A9C8-FA3295EE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C9E3-4831-4EAF-BC33-8FA3BC76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E6AD4-89D4-46CC-939A-F2651DF3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F1334-14F4-4082-9AB1-01D557BA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E4B4F-0918-4B04-8772-C74BC56A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331E-28BC-4F3D-8F4C-AC748F5A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B2D50-BDB3-4A8E-A9F5-B69B0764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4BE93-D64B-4D1B-8284-9CAA279D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A3A06-7B05-4A9E-ACEA-44D6003E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91D-E054-4E21-A8F2-C4DA07B6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0B108-DC52-42CE-A4D6-2123E6FC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998A5-D97A-49F6-8DCA-1EB4ACA6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39DA-7F6F-435C-B902-8F0DB830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B410-6FFC-454C-93B8-19D4F4C1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BFB56-3D35-445C-B53F-E81E23FC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F55FA-4C3E-41B7-98E9-CA5F62FA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FFD6C-73DB-46D4-AF85-6351F302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C323B-AFD9-416F-9AE0-3311BD79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A3004-3F0A-48E2-9766-D9573EC2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32FE2-75D7-437C-916C-D2725677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9AE-3220-4F79-A400-91D1FB1D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00CC9-16EA-4F6E-AB77-E60E989F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A55B2-1ABE-476C-B7FE-F6E9D33D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E43706-F508-4C86-8D68-22AA8789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8E287-37EB-4803-A198-B1B8160E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4A44D-DE07-41C3-880E-C571166B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282D8-69E7-4AF7-B0F5-817EEDFA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35546-9026-4BC0-A979-46B6387B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701E0-A98F-45AD-81B9-0A26AFE1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98EB8-730D-4C33-A4C2-8AE4E784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11234-0521-4771-944F-53EA3506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F63-20CE-4E0D-A2F9-4C58D2E7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F6621-3BD3-4883-AE3E-98FC7A90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6A6FF-BAE2-4E86-9770-CAC4AEA0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52EE7-E60B-44B1-8438-20802C5E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1629A-72C9-4FF2-8C26-463B12AF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24AAF-390B-42F1-B7A8-D66ACDB4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3D320-7B54-4A38-86A4-FD12128D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B17B8-1DF7-42A1-B56D-627DB53D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A3F8A-60E6-4834-9329-9EB058F9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AF36B-D411-4762-B8DF-A45B7CF4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E994E-4E99-4660-A34F-3CC45204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C8D-453B-440F-A65C-8BC4B19B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DB955-5E81-4232-94B5-B5E2A487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33902-56E1-4978-A658-C65B347F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291BD-3E35-409A-9116-62582224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A739E-BAEF-4865-96AD-4081C3D1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2205F-4A3F-4B2F-905F-75235F94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A703B-CD77-4A55-950D-BFC29A5A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72343-9F5F-45F7-BC08-E47401EA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623D7-8CA7-4C9C-8145-91732584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A87E8-D22F-4997-B9AE-DB3C2CEE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092BB-67E8-4C82-8B8C-3AF36EF1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C68-592C-4B06-ABB2-EBDA31D1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43512-4B1C-4583-AA41-043A5E27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E47C4-5C20-49EE-8052-2314689B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1B357-4CD0-4E95-A477-02690E77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D1CD7-AE1B-4C7A-8EC9-87A14CA0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6F782-BA3A-465D-BBA7-A9843F9D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AE3557-412F-4E0C-9D4B-022F7EEA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DEDFD7-BD58-4DBA-8B2F-F5E3E3F0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C7A180-575B-4F63-AD7D-432867F6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228A25-00B4-44C1-8B47-1D05B2EE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41E3DF-5808-49CB-A469-E3023E96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424-A6F7-44C4-821E-01E7E583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91CF53-9262-423E-9E17-65FAA9EE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5D2C66-3067-4CCB-A6DE-B34D17DC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1931A0-C97A-4B47-83D5-BD8E7792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FC449B-ED9B-4473-9C27-BBC84338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25D53F-FD6D-407F-AB49-91FAA393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F6AB74-61B0-434D-B7D2-1A49E114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683FC9-9AF7-4DB0-B7DF-6DE0695D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23486-A6F5-4CFC-AE05-5DC71128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C2574-C5A6-4034-B4E6-E4BC9723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41E3B-7805-4DE3-95A5-42EBC310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8BE5-48BB-4219-9C0B-C4C4EDC3CB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8F3E-F9E4-4A2F-8288-08F90DA85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0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1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2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4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5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ACF5-9037-47DF-8275-BE4E3FBB0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1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1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2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4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86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91FB-E99A-4F8E-BBE8-AA7E9665D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17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EB88-2D12-460E-8262-4784F4EF84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7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9C0D-651E-4C8D-A5DE-FD5AB96E849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F142-2EB2-4B0E-86E9-62B588E697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1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9BE0-C81E-4291-947E-0A311B3337C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7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7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9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D993-7B4E-406F-8086-A5AA741F67B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B2D5-7FCC-454B-ABEA-BA92BF8D13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17F7-AA89-4727-B6D2-BE9B8B83C1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0C59-F00F-4A6A-8F0E-88F8BD2C8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7DB5-5B18-42B4-BB1D-B04FE0B24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A391-6E0B-464B-829A-ED12F5F5D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aw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Emily B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10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tal-Lilong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- multi-party democr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- Bingu wa Mulhar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ependence- July 6, 19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area- 118,48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to- Unity and Free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ligion and Curr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alawi 79.9% of the people are Christian, 12.8% of the people are Muslim, and other is 3%. The people that have no religion is 4.3%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urrency of Malawi is the Kwa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7924680" y="3962520"/>
            <a:ext cx="922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-1219320" y="685800"/>
          <a:ext cx="1401840" cy="8278920"/>
        </p:xfrm>
        <a:graphic>
          <a:graphicData uri="http://schemas.openxmlformats.org/drawingml/2006/table">
            <a:tbl>
              <a:tblPr/>
              <a:tblGrid>
                <a:gridCol w="140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5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0" name="" descr=""/>
          <p:cNvPicPr/>
          <p:nvPr/>
        </p:nvPicPr>
        <p:blipFill>
          <a:blip r:embed="rId1"/>
          <a:stretch/>
        </p:blipFill>
        <p:spPr>
          <a:xfrm>
            <a:off x="90360" y="700200"/>
            <a:ext cx="238320" cy="56880"/>
          </a:xfrm>
          <a:prstGeom prst="rect">
            <a:avLst/>
          </a:prstGeom>
          <a:ln w="0">
            <a:noFill/>
          </a:ln>
        </p:spPr>
      </p:pic>
      <p:pic>
        <p:nvPicPr>
          <p:cNvPr id="1041" name="" descr="Map of Malawi"/>
          <p:cNvPicPr/>
          <p:nvPr/>
        </p:nvPicPr>
        <p:blipFill>
          <a:blip r:embed="rId2"/>
          <a:stretch/>
        </p:blipFill>
        <p:spPr>
          <a:xfrm>
            <a:off x="2743200" y="1752480"/>
            <a:ext cx="3760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mate and 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Malawi’s climate is sub-trop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lative location of Malawi’s is southern Africa, east of Zam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wi’s exact location is 13 degrees -30 degrees south, 34 degrees- 00 degrees 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l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Holiday- Independence day is July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wi’s Fla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2286000" y="129528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anguag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chewa is Malawi’s official language, and 57.2% of their people speak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.8% of their people speak Chinya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.15% speak Chiya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opulation and Natural Resourc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pulation- 13,931,83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atural Resources- limestone, arable land, hydropower, unexploited deposits of uranium, coal, and bauxi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06:28Z</dcterms:created>
  <dc:creator>emilyberry</dc:creator>
  <dc:description/>
  <dc:language>en-US</dc:language>
  <cp:lastModifiedBy>LCS_user</cp:lastModifiedBy>
  <dcterms:modified xsi:type="dcterms:W3CDTF">2008-11-12T12:42:41Z</dcterms:modified>
  <cp:revision>3</cp:revision>
  <dc:subject/>
  <dc:title>Malawi</dc:title>
</cp:coreProperties>
</file>